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88D1F-2E7E-4C10-90FE-AF489A97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E32B-C85B-4736-9F15-BC26937A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8E45-4E44-408E-A601-FF2406F0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34BF2-41C1-45C3-A10D-84F96665C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1ADF-39E9-4061-8AF8-4F46A140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CA81-340F-4DD1-95C6-F8619537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FF5FC-6D60-4197-9B4C-58B5D109F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F6BF-7D86-41EA-A42F-F4ACC782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7D736-C939-4063-B684-02300F03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3F30-47D8-4EFD-A875-FAE4639D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523A-3B2D-4A93-A4DF-4C3FFD2D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4D1C-065C-4898-8F63-9C9A7713F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E922-A39B-4C16-9737-511664E1DBD1}" type="slidenum">
              <a:rPr b="0" lang="ru-RU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третье «Электрическая цепь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а) найти ошибку в схеме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б) собрать электрическую цепь, измерить силу тока в цепи и напряжение на резисто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2" name="Объект 1" descr=""/>
          <p:cNvPicPr/>
          <p:nvPr/>
        </p:nvPicPr>
        <p:blipFill>
          <a:blip r:embed="rId1"/>
          <a:stretch/>
        </p:blipFill>
        <p:spPr>
          <a:xfrm>
            <a:off x="900000" y="1341360"/>
            <a:ext cx="73440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Ошибка в схем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4" name="Объект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80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Cambria"/>
              </a:rPr>
              <a:t>«</a:t>
            </a: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наешь ли ты свой учебник физики?» 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1.Кто автор учебника?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2.   Что изображено на обложке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3.   Каково содержание форзацев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4.   Какова структура учебника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5.  Сколько страниц в учебнике?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Дополнительно, что можете сообщить про учебник физики 8 класса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0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«Загадки о физиках-учителях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о второй – 4 балла и т. д.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 последней – 1 балл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перв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844280"/>
            <a:ext cx="845964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С 1820 – 1825 гг.. он опубликовал ряд теоретических и экспериментальных трудов по электродинамик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Его отец  - жирондист, исполнявший обязанности судьи при мятежниках, был казнён как сообщник аристократов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В 1812 преподавал физику и химию в центральной школе г. Бугре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Его фамилия есть в названии прибора, измеряющего силу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Название единицы силы ток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980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3288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Ампер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2627280" y="1557360"/>
            <a:ext cx="36338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вторая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000" y="17730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Его знания по физике были весьма скудными, но он был вынужден преподавать предмет, т. к. в США был кризис и, с работой было туго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Абердинский колледж присудил ему за курс физики степень магистр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Работал у Альберта Майкельсона – тонкого знатока физического эксперимента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Создал для средних школ и колледжей первые американские учебники физик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пределил заряд электрона, удостоен Нобелевской премии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05120" algn="ctr">
              <a:lnSpc>
                <a:spcPct val="10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Роберт Миллекен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916360" y="1628640"/>
            <a:ext cx="3367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треть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в г. Ромны Полтавской губернии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В 1901 г. для приобретения опыта в постановке эксперимента уезжает к Рентгену в г. Мюнхен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Отец современной физики (под его руководством создаётся </a:t>
            </a:r>
            <a:r>
              <a:rPr b="0" lang="ru-RU" sz="26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Физико-технологический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институт)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Им было воспитано несколько поколений российских физиков 20 века (среди них П. Капица, И. Курчатов). Он был Учителем с большой буквы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Одновременно с Р. Милликеном определил дискретность электрического заряда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Урок - вечер 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«Учёные, учителя - физики», </a:t>
            </a:r>
            <a:br>
              <a:rPr sz="4800"/>
            </a:br>
            <a:r>
              <a:rPr b="1" lang="ru-RU" sz="4800" spc="-1" strike="noStrike">
                <a:solidFill>
                  <a:srgbClr val="675e47"/>
                </a:solidFill>
                <a:latin typeface="Cambria"/>
              </a:rPr>
              <a:t>8 класс.</a:t>
            </a:r>
            <a:br>
              <a:rPr sz="48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 </a:t>
            </a:r>
            <a:br>
              <a:rPr sz="6600"/>
            </a:br>
            <a:r>
              <a:rPr b="0" lang="ru-RU" sz="6600" spc="-1" strike="noStrike">
                <a:solidFill>
                  <a:srgbClr val="675e47"/>
                </a:solidFill>
                <a:latin typeface="Cambria"/>
              </a:rPr>
              <a:t> 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e8d8c"/>
                </a:solidFill>
                <a:latin typeface="Calibri"/>
              </a:rPr>
              <a:t>Презентация Кузьминой Л. В. – учителя физики ВБСОУ ОСОШ № 1 г. Калуги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Иоффе А. Ф.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2556000" y="1600200"/>
            <a:ext cx="3868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гадка четвёртая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78920" y="1599840"/>
            <a:ext cx="8280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Он родился 16 марта 1789 г. в  Эрлангене,  в семье потомственного слесаря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Отец передал сыну не только знания и опыт работы с металлом, что пригодилось потом учёному при изготовлении приборов и устройств для научных исследований, но и свою настойчивость в достижении цели, работоспособность и веру в справедливость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 Проучившись три семестра в университете, он в сентябре 1806 г. стал работать учителем математики в частной школе швейцарского городка Готтштадта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4. Он открыл теоретически  и подтвердил на опыте закон, выражающий связь между силой тока в цепи, напряжением и сопротивлением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411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5. В 1881 г. на электротехническом съезде в Париже учёные единогласно утвердили название единицы сопротивления …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0280" y="25992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Георг Ом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843280" y="1700280"/>
            <a:ext cx="35337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ключительное слово.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2b20"/>
                </a:solidFill>
                <a:latin typeface="Calibri"/>
              </a:rPr>
              <a:t>Подведение итогов.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114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Литература: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Кубеев М. Н. Сто великих имён России.- М.: Вече, 2010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Иоффе А. В. О физике и физиках.- Ленинград, «Наука», 1977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Статья газеты «Весть» «Благодетели образования», 14 февраля 2008, четверг. №51-54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Пёрышкин А. В. Физика. 8 кл.: Учеб. для общеобразоват. учреждений. – 6-е изд., стереотип. – М.: Дрофа, 2004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5880" indent="-2239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4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Цели урока: 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знакомить учащихся с деятельностью учёных физиков, которые в своё время работали учителями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Показать наиболее примечательные черты их мироззрения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Методы получения научных знаний;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2b20"/>
                </a:solidFill>
                <a:latin typeface="Calibri"/>
              </a:rPr>
              <a:t>Сформировать правильное представление о характере научного труда учёных.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Содержание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50920" y="1341000"/>
            <a:ext cx="8353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1. </a:t>
            </a: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ступ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2.  Задания для команд.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второе. Каждая команда рассказывает об учёном-учителе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третье – экспериментальное: «Электрическая цепь»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четвёртое: «Знаешь ли ты свой учебник физики?»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Задание  пятое: «Загадки о физиках-учителях»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(Ампер, Аристотель, Пёрышкин А. В., Милликен Р.,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Циолковский К. Э., Ломоносов М. В., Иоффе А. Ф., Попов А. С.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3.Заключительное слово учителя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08520" indent="-205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 </a:t>
            </a:r>
            <a:r>
              <a:rPr b="0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Задание   первое: «Найди правильную дорогу»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2f2b20"/>
                </a:solidFill>
                <a:latin typeface="Times New Roman"/>
                <a:ea typeface="Times New Roman"/>
              </a:rPr>
              <a:t>В три столбика выписаны обозначения физических величин, их единицы и их названия. Необходимо стрелками соединить каждую физическую величину со своей единицей измерения и названием: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Перв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600200"/>
          <a:ext cx="7682040" cy="4492800"/>
        </p:xfrm>
        <a:graphic>
          <a:graphicData uri="http://schemas.openxmlformats.org/drawingml/2006/table">
            <a:tbl>
              <a:tblPr/>
              <a:tblGrid>
                <a:gridCol w="2560680"/>
                <a:gridCol w="1832040"/>
                <a:gridCol w="3289320"/>
              </a:tblGrid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ощадь сечени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q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Кл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Сила ток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898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заряд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Вторая команда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7786800" cy="4924440"/>
        </p:xfrm>
        <a:graphic>
          <a:graphicData uri="http://schemas.openxmlformats.org/drawingml/2006/table">
            <a:tbl>
              <a:tblPr/>
              <a:tblGrid>
                <a:gridCol w="2595600"/>
                <a:gridCol w="1735200"/>
                <a:gridCol w="3456000"/>
              </a:tblGrid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ρ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дельное сопротивл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9a57c"/>
                    </a:solidFill>
                  </a:tcPr>
                </a:tc>
              </a:tr>
              <a:tr h="985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ℓ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Вт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Работ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U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Ом*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ощность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98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984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Дж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2f2b20"/>
                          </a:solidFill>
                          <a:latin typeface="Times New Roman"/>
                          <a:ea typeface="Times New Roman"/>
                        </a:rPr>
                        <a:t>напряжение</a:t>
                      </a:r>
                      <a:endParaRPr b="0" lang="en-US" sz="2800" spc="-1" strike="noStrike">
                        <a:solidFill>
                          <a:srgbClr val="2f2b2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0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Cambria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987640" y="1542960"/>
            <a:ext cx="345600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675e47"/>
                </a:solidFill>
                <a:latin typeface="Times New Roman"/>
                <a:ea typeface="Times New Roman"/>
              </a:rPr>
              <a:t>Биография учёного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35290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1T12:46:36Z</dcterms:created>
  <dc:creator>Кузьмина</dc:creator>
  <dc:description/>
  <dc:language>en-US</dc:language>
  <cp:lastModifiedBy>Кузьмина</cp:lastModifiedBy>
  <dcterms:modified xsi:type="dcterms:W3CDTF">2014-01-11T13:38:13Z</dcterms:modified>
  <cp:revision>18</cp:revision>
  <dc:subject/>
  <dc:title>Презентация PowerPoint</dc:title>
</cp:coreProperties>
</file>